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F099-F9C0-46CA-BD0C-FC93AD3C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21E4-1D4A-4E46-8CBE-11919EAC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8391-3274-4638-9F1D-1D3CF93E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150C-3597-4924-89AA-51F6DAEB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FB14-1C19-4AB6-98E8-C62A4D78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70CE-51B3-41F8-9FC8-239273F1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C8E6-301E-4DFB-A590-66DADA4E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3ACE-DD5B-4020-B10F-77AAE40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1976-9C0C-4F34-BB04-A91E8B36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AE5A-18E4-4DC1-9965-9E38A8D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AF58-7832-43DC-BCC3-FCD1D0F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4E98-1AB9-41EC-A565-AE70EA57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3B54-7744-4BC3-8A0F-5C97E4F4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1C52-8AA4-4002-B24C-32704988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97FA-AFF5-4446-9444-91E275AC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42D-811B-421A-9365-174FCCF9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4110-CED7-4A49-B907-B78D6F69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F9FC-22DC-4BDA-B69F-EE25C7EB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E7FA7-AEF5-4EA7-81D1-D30A7F0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A937-4FFD-4848-A20E-1B671E43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32E7-86AC-4D10-9ED9-3AD78C5C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16D9-7872-4C4E-AB44-0D8AE512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E75A-F858-4EE2-AC67-F380B0F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828B-BB00-41F9-BC44-6B131B7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4B88-7F72-46AA-9FF4-6A6A6C7B9F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39B6-1EDD-4EA5-AD55-7448FA764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brl.org/int/gl/2007-04-17/GLFramework-REC-2007-04-17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71840" y="1371600"/>
            <a:ext cx="529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Arial"/>
              </a:rPr>
              <a:t>ACG 5405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BRL – Global Ledg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ry Detai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ll togeth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xbrl ...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schemaRef ....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context 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unit 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gl-cor:accountingEntries....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gl-cor:documentInfo .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gl-cor:entityInformation .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gl-cor:entryHeader .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gl-cor:entryDetail ...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gl-cor:accountingEntri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schemaRef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xbr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BRL-GL container ele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 element is &lt;xbr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XBRL-GL container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single XBRL GL file c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tore one or more virtual XBRL GL files, through one or more &lt;accountingEntries&gt; structures with data inside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ingle physical XBRL GL file can have multiple accountingEntries structures to represent both transactions and master fil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erences are signified by the appropriate entriesType enumerated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i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tail behind the Financi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art of Accounts, Journal Entries, Source Documents, any financial inform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ping all financi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E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BRL GL and XBR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BRL GL is contained with XBR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brl ...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amespace declara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schemaRef ....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chema declara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BRL GL structure follows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lett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ike XBR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mmercial &amp; Industri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ank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binations of taxonomies are used depending on the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Palett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e Taxon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ow organizations to track much more detail as part of every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entory and business metrics, organizational detail and the Entity Information section, and other common i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supplement the resources, agents and events that re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customer, vendor and employee related transactional detail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UC - MultiCurrenc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ail for the Entity Information section, additional sections necessary for other add-on modules, and information for business metrics/inventory tracki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SK – US/UK Account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g journal entries, accounting master files, and historical status reports with additional information necessary for more sophisticated accounting needs common to Saxon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AF – Tax and Tax Audi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d by the international tax agenci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lettes will u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Taxono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t schem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d in SchemaR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ent schem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d in XBRL namespace declar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d to look up element na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BRL Structu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601992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cument Inform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 description of the accounting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635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ity Information Se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descriptive information about the Entity’s accounting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ry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4521240" cy="4419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52880" y="5105520"/>
            <a:ext cx="3124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38:08Z</dcterms:created>
  <dc:creator> </dc:creator>
  <dc:description/>
  <dc:language>en-US</dc:language>
  <cp:lastModifiedBy> </cp:lastModifiedBy>
  <dcterms:modified xsi:type="dcterms:W3CDTF">2009-07-14T15:34:31Z</dcterms:modified>
  <cp:revision>43</cp:revision>
  <dc:subject/>
  <dc:title>ACG 5405</dc:title>
</cp:coreProperties>
</file>